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5D04-3CC3-46E6-8543-6A223BB33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23E5-E84A-4A5C-99FF-A30F4351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B39B-7C91-4B12-A058-0197D5495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36B0-BF2D-40BE-9D27-81683C35D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AE16-94F5-4A43-B8E1-12CCEFA35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AD39-28E2-4B26-9920-B7C1CD98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DF31-4DDF-4EA6-8C90-5DF29D5E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8453-6555-4D34-8A67-7CC13112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3435F-E269-48A6-A845-B4FADB2E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150C0-8937-47AB-96E0-0D6C1674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E29C-FEC5-45E9-863F-B74BBCA3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F40B-CBBA-426F-8B91-5A840842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DE387-47DE-49DC-9B7B-B9039278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7EC6-4D42-4066-9CD9-A17DA1EE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B951-214A-4767-BE50-F9DDC945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63A0-8A37-4F8D-8A60-41A003ACF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ED94-15A3-4371-B9B7-25AC95052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5B5D-F2FA-4515-AF47-39F451B5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D950-C538-46F7-9BB9-51C5967D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990D-75A3-40C1-8DF3-2897606C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9584-C92A-4878-A77A-22349D01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5509-7AE9-4D24-8CD8-ABA01B3D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6400-D645-4913-900D-487DDF72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F7DC-D724-440D-9591-73BE06B5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ACDF-FF36-442F-8A7B-A305AEEE1CF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CF62-AC2A-4F5F-BA0D-ADB54A24D0C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Comic Sans MS"/>
              </a:rPr>
              <a:t>¡Las Comidas !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eated by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amantha Lyn Conne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El Dasayun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ra el desayuno me gusta comer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Gofres de chocolate chip,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-Chocolate con leche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-Tocino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- Los huevos y has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52578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600200" y="5257800"/>
            <a:ext cx="1523880" cy="1600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Bacon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3124080" y="5257800"/>
            <a:ext cx="1676520" cy="16002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6477120" y="52578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4800600" y="52578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ff"/>
                </a:solidFill>
                <a:uFillTx/>
                <a:latin typeface="Comic Sans MS"/>
              </a:rPr>
              <a:t>El Almuerz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ra el almuerzo me gusta comer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Ensalada,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-Sushi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-Chocolate con leche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-Hamburguesa con queso y tocin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-Papas frita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5486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124080" y="5486400"/>
            <a:ext cx="1343160" cy="13716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1905120" y="5486400"/>
            <a:ext cx="1295280" cy="1371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6324480" y="5486400"/>
            <a:ext cx="2190960" cy="1371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4495680" y="548640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3300"/>
                </a:solidFill>
                <a:uFillTx/>
                <a:latin typeface="Comic Sans MS"/>
              </a:rPr>
              <a:t>La Ce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ra la cena me gusta comer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Chili perro queso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-Una coca col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-Papas fritas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-Frutas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-Brócoli y ques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Chili Cheese Dog"/>
          <p:cNvPicPr/>
          <p:nvPr/>
        </p:nvPicPr>
        <p:blipFill>
          <a:blip r:embed="rId1"/>
          <a:stretch/>
        </p:blipFill>
        <p:spPr>
          <a:xfrm>
            <a:off x="0" y="5486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828800" y="5486400"/>
            <a:ext cx="1066680" cy="13716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2971800" y="5562720"/>
            <a:ext cx="1676520" cy="1143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4724280" y="556272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6324480" y="5562720"/>
            <a:ext cx="1981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5:11:23Z</dcterms:created>
  <dc:creator>connerysam</dc:creator>
  <dc:description/>
  <dc:language>en-US</dc:language>
  <cp:lastModifiedBy>connerysam</cp:lastModifiedBy>
  <dcterms:modified xsi:type="dcterms:W3CDTF">2011-04-14T14:43:26Z</dcterms:modified>
  <cp:revision>4</cp:revision>
  <dc:subject/>
  <dc:title>Las Comidas !</dc:title>
</cp:coreProperties>
</file>